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A7C6-408D-4314-A70A-1585BCE8654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087E-7522-49E8-B5F2-9DEA6366E24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B6AC-673D-43A5-BC18-22B7CD6D13C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40CF-E065-4869-9BB2-9A59D9CF7D4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3639-E6B7-4DB5-B6EC-B87DFC8BC83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D65D-93AA-4C61-9539-79D05B000C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3A78-FFBC-47CB-BB7F-376568C8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0084-87CD-4A77-816B-9EC9A0E9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1E68-5E48-4E4A-9F9E-394A665E9B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D990-53FE-4129-A3E8-86E0E661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240B-009D-415A-A380-546348D5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BF7AD-2C52-420C-B777-37BDDDF8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FBDF-AD0E-41EE-BB5D-FCBADA9D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2CF5-7B0A-450A-A540-A3F8BED2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589BF-E599-47E5-88D8-89F49047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17CF-8944-4723-861C-5B2AFF34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A2B1-B3A2-4A8E-9CCF-A711995A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51E4-F7C9-4B4B-BAE8-70B85E650F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第三十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抗恶性肿瘤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四、肿瘤细胞的耐药性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细胞改变跨膜转运机制，减少到达作用部位的药量 肿瘤细胞膜产生特殊的膜蛋白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P-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糖蛋白）加速药物从细胞内泵出 肿瘤细胞改变代谢途径，使药物失去抗代谢作用 肿瘤细胞产生耐药基因，其表达产物能修复抗肿瘤药损伤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DNA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同时肿瘤细胞凋亡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五、不良反应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消化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毛囊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肾毒性及膀胱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肺毒性：肺纤维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心肌毒性神经系统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肝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神经毒性及耳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免疫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致突变致畸致癌：干扰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常用抗恶性肿瘤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甲氨蝶呤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M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FH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还原酶抑制剂；强的细胞免疫抑制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儿童急性白血病和绒毛膜上皮癌疗效显著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可加用甲酰四氢叶酸钙减轻骨髓抑制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环磷酰胺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C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，属周期非特异性药物；有免疫抑制作用，对恶性淋巴瘤、多发性骨髓瘤、急性淋巴细胞白血病、神经母细胞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和胃肠道反应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代谢产物丙烯醛会引起化学性膀胱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类：肾上腺皮质激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快速溶解淋巴细胞，对急性淋巴细胞白血病、恶性淋巴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其他恶性肿瘤无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慢性的，除减少淋巴细胞数目外，降低血液系统并发症的发生率或使其缓解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djqjm_ej[1]"/>
          <p:cNvPicPr/>
          <p:nvPr/>
        </p:nvPicPr>
        <p:blipFill>
          <a:blip r:embed="rId1"/>
          <a:stretch/>
        </p:blipFill>
        <p:spPr>
          <a:xfrm>
            <a:off x="6524640" y="3505320"/>
            <a:ext cx="261936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371600" y="14479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46ca6"/>
                </a:solidFill>
                <a:latin typeface="Comic Sans MS"/>
                <a:ea typeface="文鼎书宋二"/>
              </a:rPr>
              <a:t>THANK YOU !</a:t>
            </a:r>
            <a:endParaRPr b="0" lang="en-US" sz="8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80880" y="274896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楷体_GB2312"/>
              </a:rPr>
              <a:t>一、恶性肿瘤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机体在各种致癌因素是长期作用下，某一正常组织细胞发生异常分化和过度无限增生的结果。这种现象一旦形成，具有向周围组织乃至全身侵蚀和转移的特性，其生长变化快慢与机体免疫功能有关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正常组织转化而来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失去整体调控的细胞群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转归与机体免疫系统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二  、抗恶性肿瘤药的作用及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一）按生化机制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合成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药：烷化剂等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药：抗癌抗生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抑制蛋白合成药：抗癌植物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改变机体激素平衡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根据药物化学结构和来源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：氮芥类、乙烯亚胺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代谢物：叶酸、嘧啶、嘌呤类似物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抗生素：丝裂及博来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植物药：长春碱类、喜树碱类等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：肾上腺皮质激素、雌雄激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杂类：铂类络合物与酶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三）按对细胞增殖周期作用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期：抗代谢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Ｍ期：抗癌植物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6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三、抗恶性肿瘤药的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一）细胞生物学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细胞群：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静止细胞群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生长比率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F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增殖细胞群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全部肿瘤细胞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CCNS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周期各时项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CCSA):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对增殖周期某些时项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生化机制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生物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二氢叶酸还原酶抑制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MTX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胸苷酸合成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嘌呤核苷酸互变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核苷酸还原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ＤＮＡ多聚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直接影响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ＤＮＡ交联剂：氮芥、环磷酰胺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铂类络合物：顺铂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抗菌素：丝裂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拓扑异构酶抑制剂：喜树碱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和阻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合成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嵌入剂，如多柔比星和放线菌素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蛋白质合成与功能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微管蛋白活性抑制剂：长春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蛋白体功能：三尖杉生物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氨基酸供应：Ｌ－门冬酰氨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激素平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通过影响激素平衡从而抑制某些激素依赖性肿瘤，如糖皮质激素、雌雄激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51:2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